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B68-4FCA-4A53-B2A1-E3F7DC40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C87-36F7-4841-A72B-4117E3D0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236-909F-488B-B570-CA8DBAD7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2D3-CD0A-4CB6-8DCD-53D9D777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C2ED-C956-4CDF-BAAF-37EF0328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4FDA-83F9-4BE2-A22F-F1A5D523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33AF-6ECA-4A1E-A39B-7AC5B981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5183-DC92-4D78-84B3-76F01D01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0D7A-C62D-4F69-AF32-2321B8E3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5675-957C-42F7-AFB8-08027539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766C-86DC-48D6-8DB0-BFB2C454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246-ECCC-4506-85D1-8445B4A9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9A47-D265-4A74-A81E-F071E1A2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D245-B0BF-4D8C-97B0-ED900728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4567-5AD8-45C1-9758-C7EEE0DA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881C-176E-4971-87B5-B6D7B418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C207-322E-4B2D-B58F-C34A31E3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6ACEA-C95E-468C-9845-09382380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9623F-ADF9-4846-A092-5C13ADC3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FCB4A-60D0-4C96-A668-E2E2749E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6C4A8-38B9-4687-9D3D-C9BDF46A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2104C-07A8-42A0-AD82-09581ABA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F43-D598-4DC6-9213-FD81B87C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47586-C4A5-4CB9-BDC3-99FB0518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0A2CB-7EEC-4A8B-BD98-CF604CDD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1B2EE-E1DC-4DD6-8D3C-E43DF6F9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D8EAF-50AD-4E23-A7A4-99D3A2A9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2A34C-DB77-41BB-A2CA-D09BD5E7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62E55-6A01-4040-B169-8F0736EB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486C8-E86C-4596-B760-4E70DA93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6ED92-5CC0-45B8-8C64-643C5F4E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CC42D-1034-4CAC-8F0E-A077B339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2405A-BBD8-4200-977E-27EB156D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ED0A-0A9A-43A9-8FC7-226DB1CA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147AF-9BB1-461E-934B-84077467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BF978-46B3-4858-A0D0-0A58B4C1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65271-4BB3-4619-9E93-201866D5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D3FA5-475A-4875-AB5D-953B3108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DBBE1-3777-44B3-A64B-64884017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B9A36-D8F9-42FE-9327-73DE8E91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58C9C-81DC-4F98-9F65-F126824F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6C077-3F75-48C1-8E43-36430754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7C1F1-069A-4BBD-A282-6713EA6F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D62-36EE-4E59-B7B5-6B0A1907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66CC-8FB8-4573-BE80-903AA4B3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F28-510B-4A6E-B418-66D8568F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4FD-3817-45D3-AEFD-C735072F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B4C-0C8E-41BD-9379-3B55D493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9EF6-982A-4C5F-9727-8932191448E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1F30-EE6A-4F1C-A9D3-3B21C71A3FE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D624-C33F-48DB-B111-07A3DEDF400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1B19-4EAF-4DCE-B8C0-B2C3AA8EEB0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3/3e/RheumatoideArthritisAP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file://upload.wikimedia.org/wikipedia/commons/3/3a/Arthrite_rhumatoide.jpg" TargetMode="External"/><Relationship Id="rId4" Type="http://schemas.openxmlformats.org/officeDocument/2006/relationships/image" Target="../media/image10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060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19320" y="2437920"/>
            <a:ext cx="6858000" cy="2667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хабилитација болесника са реуматоидним артритисом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600" spc="-1" strike="noStrike">
                <a:solidFill>
                  <a:srgbClr val="dbf5f9"/>
                </a:solidFill>
                <a:latin typeface="Calibri"/>
              </a:rPr>
              <a:t>Показатељи лоше прогнозе РА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Рани почетак боле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Велики број захваћених зглобо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Теже функционално оштећењ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Генетски показатељ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Ране радиолошке промен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RF  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и-или</a:t>
            </a: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  CCP At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 (циклични цитрулисани пептид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2193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685800" y="175248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јални симпто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четном стадијуму често долази само до општих поремећаја: нелагодности, умора, губитка сна и апетита, незнатно повишене ТТ,  опште слабос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и симпто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поремећаји који се јављају на зглобовима су јутарња укоченост, бол и отоци зглобова. Захватају више симетричних зглобова, нарочито 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600" spc="-1" strike="noStrike">
                <a:solidFill>
                  <a:srgbClr val="dbf5f9"/>
                </a:solidFill>
                <a:latin typeface="Arial"/>
              </a:rPr>
              <a:t>Знаци и симптоми на зглобовима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Бол у миру, оток, палпаторна болна осетљив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Бол при покретима у развијеној форм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Јутарња укоченост дужа од 1 са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Оток због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већа</a:t>
            </a:r>
            <a:r>
              <a:rPr b="0" lang="sr-CS" sz="2400" spc="-1" strike="noStrike">
                <a:solidFill>
                  <a:srgbClr val="ffffff"/>
                </a:solidFill>
                <a:latin typeface="Constantia"/>
              </a:rPr>
              <a:t>њ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количине синовијалне течности, хипертрофије синовије и задебља</a:t>
            </a: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њ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а капсул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Ограничена покретљивост због бола (у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FL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да би повећао зглобни волумен и смањио истеза</a:t>
            </a: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њ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е капсуле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Распоред: ручни, шаке, стопала; рамена, лактови, колена; куков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Деформације: улнарна девијација шаке, лабудов врат, рупица за дугме,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палац, уз атрофије мишић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66_artikle2"/>
          <p:cNvPicPr/>
          <p:nvPr/>
        </p:nvPicPr>
        <p:blipFill>
          <a:blip r:embed="rId1"/>
          <a:stretch/>
        </p:blipFill>
        <p:spPr>
          <a:xfrm>
            <a:off x="281160" y="907920"/>
            <a:ext cx="3479760" cy="46087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380880" y="0"/>
            <a:ext cx="47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У </a:t>
            </a:r>
            <a:r>
              <a:rPr b="1" lang="sr-CS" sz="3200" spc="-1" strike="noStrike">
                <a:solidFill>
                  <a:srgbClr val="000000"/>
                </a:solidFill>
                <a:latin typeface="Constantia"/>
              </a:rPr>
              <a:t>одмаклом стадијуму</a:t>
            </a: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3886200" y="1219320"/>
            <a:ext cx="4876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астаје растезање и истезање зглобне капсу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азарања хрскавице и субхондралне кости, а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процес захвата и разара и лигаменте, тетиве и капсу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304920" y="3505320"/>
            <a:ext cx="9601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рена ткива замењују се гранулацио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аје фиброзирање гранулационог тк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глобни простори се премошћују, прво чврстим везивним ткивом, ко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је калцифику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потпуно ишчезавање зглобне шупљ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прво фиброзна, а затим коштана анкил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-334800" y="-103320"/>
            <a:ext cx="9783720" cy="11638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уматоидни с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тани чворови (20-30%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 на кож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 на мускулатури (слабост, атрофија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 на крвним судовима (нокатна плоча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 на перферним нервима (компр неуропатије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 на срцу (перикардитис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 на плућима (обољења плеуре, изливи..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 на очима (2%, склеритис и епискклеритис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 лимфног апара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 на гласним жицам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еопороз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, малигните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bf5f9"/>
                </a:solidFill>
                <a:latin typeface="Calibri"/>
              </a:rPr>
              <a:t>Дијагностички критеријуми РА америчког удружења реуматолога из 1987.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утарња укоченост у-око зглоба од најмање 1 са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итис 3 или више зглоба(може 14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хватање бар 1 подручја руку (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C,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CP,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етрични артритис           </a:t>
            </a:r>
            <a:r>
              <a:rPr b="0" lang="sr-CS" sz="2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6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едељ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уматоидни чворићи (на местима притиска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тиван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F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 серум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иолошке промене (остеопороза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CP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сужен зглобни простор, узуре или ерозије уз руб кости,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еформација палца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dbf5f9"/>
                </a:solidFill>
                <a:latin typeface="Calibri"/>
              </a:rPr>
              <a:t>Значај ране дијагностике Р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Нема дијагностичког теста који потврђује 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Ток болести је непредвидив, углавном прогресива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Време трајања је важније од интезитета запаљењ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Дијагностика више зависи од вештине узиманја анамнезе и прегледа, него од специфичних метод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Рана примена лекова који модификују болест доводи до боље контроле болести и смањења оштећења зглобова (,,прозор терапијских могућн,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8991720" cy="17431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кални преглед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ндгенски снимц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бораторијски тестови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нализе  које указују на присуство запаљенског процеса (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, CRP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KS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атинин, хепатограм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нализе  које указују на имунолошка и друга збивања  (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F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нт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CP At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трасонографиј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МР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post-205-1222959470_thumb[1]"/>
          <p:cNvPicPr/>
          <p:nvPr/>
        </p:nvPicPr>
        <p:blipFill>
          <a:blip r:embed="rId1"/>
          <a:stretch/>
        </p:blipFill>
        <p:spPr>
          <a:xfrm>
            <a:off x="334800" y="695160"/>
            <a:ext cx="3687840" cy="3267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234950"/>
          <p:cNvPicPr/>
          <p:nvPr/>
        </p:nvPicPr>
        <p:blipFill>
          <a:blip r:embed="rId2"/>
          <a:stretch/>
        </p:blipFill>
        <p:spPr>
          <a:xfrm>
            <a:off x="262080" y="3822840"/>
            <a:ext cx="3608280" cy="3151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post-205-1222959510_thumb[1]"/>
          <p:cNvPicPr/>
          <p:nvPr/>
        </p:nvPicPr>
        <p:blipFill>
          <a:blip r:embed="rId3"/>
          <a:stretch/>
        </p:blipFill>
        <p:spPr>
          <a:xfrm>
            <a:off x="5211720" y="774720"/>
            <a:ext cx="3157560" cy="29750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7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Рендгенске промене служе за оцену прогресије 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post-205-1222959584_thumb[1]"/>
          <p:cNvPicPr/>
          <p:nvPr/>
        </p:nvPicPr>
        <p:blipFill>
          <a:blip r:embed="rId4"/>
          <a:stretch/>
        </p:blipFill>
        <p:spPr>
          <a:xfrm>
            <a:off x="5138640" y="3670200"/>
            <a:ext cx="3230640" cy="30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4446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nstantia"/>
              </a:rPr>
              <a:t>Едукациј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Constantia"/>
              </a:rPr>
              <a:t>Медикаментно лечењ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nstantia"/>
              </a:rPr>
              <a:t>аналгетиц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nstantia"/>
              </a:rPr>
              <a:t>нестероидни антиинфламаторни леков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nstantia"/>
              </a:rPr>
              <a:t>лекови који мењају ток болести (биолошки и небиолошк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Constantia"/>
              </a:rPr>
              <a:t>кортикостероид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nstantia"/>
              </a:rPr>
              <a:t>Физикално лечење и рехабилитациј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nstantia"/>
              </a:rPr>
              <a:t>Хируршко лечење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"/>
          <p:cNvSpPr/>
          <p:nvPr/>
        </p:nvSpPr>
        <p:spPr>
          <a:xfrm>
            <a:off x="990720" y="7621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Constantia"/>
              </a:rPr>
              <a:t>Реуматоидни артрити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7" descr="8rheu_arthritis"/>
          <p:cNvPicPr/>
          <p:nvPr/>
        </p:nvPicPr>
        <p:blipFill>
          <a:blip r:embed="rId1"/>
          <a:stretch/>
        </p:blipFill>
        <p:spPr>
          <a:xfrm>
            <a:off x="182520" y="2298600"/>
            <a:ext cx="3309840" cy="2925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4"/>
          <p:cNvSpPr/>
          <p:nvPr/>
        </p:nvSpPr>
        <p:spPr>
          <a:xfrm>
            <a:off x="3429000" y="1600200"/>
            <a:ext cx="5715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ско обољење везивног ткива недовољно познатог узрока, запаљењске природе, хроничног, проградијентног тока, која се најизразитије испољава на периферним зглобов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 карактеристика је полиартикуларни  симетрични синовитис, који води оштећењу зглоба и губитку функције, уз захватање других система и орг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dbf5f9"/>
                </a:solidFill>
                <a:latin typeface="Calibri"/>
              </a:rPr>
              <a:t>Медикаментна терапија Р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COX 2 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селективни </a:t>
            </a: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NSAI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најкраће време најмања ефикасна доза уз заштиту желуца инхибиторима протонске пумп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- диспепсија, ерозије, улцерације, крварења из ДС, оштеће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е срца, кс, бубрега, јетре, кожне манифестациј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аналгетици: Парацетамол до 3 грама дневн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600" spc="-1" strike="noStrike">
                <a:solidFill>
                  <a:srgbClr val="dbf5f9"/>
                </a:solidFill>
                <a:latin typeface="Calibri"/>
              </a:rPr>
              <a:t>Кортикостероиди у терапији РА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nstantia"/>
              </a:rPr>
              <a:t>Успешни у смиривању упал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nstantia"/>
              </a:rPr>
              <a:t>Оправдани код недовољне ефикасности </a:t>
            </a:r>
            <a:r>
              <a:rPr b="0" lang="sr-Latn-CS" sz="2800" spc="-1" strike="noStrike">
                <a:solidFill>
                  <a:srgbClr val="ffffff"/>
                </a:solidFill>
                <a:latin typeface="Constantia"/>
              </a:rPr>
              <a:t>NSAIL</a:t>
            </a:r>
            <a:r>
              <a:rPr b="0" lang="sr-CS" sz="2800" spc="-1" strike="noStrike">
                <a:solidFill>
                  <a:srgbClr val="ffffff"/>
                </a:solidFill>
                <a:latin typeface="Constantia"/>
              </a:rPr>
              <a:t> или великог ризика од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CS" sz="2800" spc="-1" strike="noStrike">
                <a:solidFill>
                  <a:srgbClr val="ffffff"/>
                </a:solidFill>
                <a:latin typeface="Constantia"/>
              </a:rPr>
              <a:t>ихове употребе на почетку леч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CS" sz="2800" spc="-1" strike="noStrike">
                <a:solidFill>
                  <a:srgbClr val="ffffff"/>
                </a:solidFill>
                <a:latin typeface="Constantia"/>
              </a:rPr>
              <a:t>а до постиз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CS" sz="2800" spc="-1" strike="noStrike">
                <a:solidFill>
                  <a:srgbClr val="ffffff"/>
                </a:solidFill>
                <a:latin typeface="Constantia"/>
              </a:rPr>
              <a:t>а пуног дејства </a:t>
            </a:r>
            <a:r>
              <a:rPr b="0" lang="sr-Latn-CS" sz="2800" spc="-1" strike="noStrike">
                <a:solidFill>
                  <a:srgbClr val="ffffff"/>
                </a:solidFill>
                <a:latin typeface="Constantia"/>
              </a:rPr>
              <a:t>LMTB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nstantia"/>
              </a:rPr>
              <a:t>Укидају се постепен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nstantia"/>
              </a:rPr>
              <a:t>Опасност од НТА, катаракте, дијабета, вирусних и бактеријских инфекција, крваренја у ДС, остеонекрозе, хирзутизма и остеопороз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nstantia"/>
              </a:rPr>
              <a:t>Нежељена дејства су већа што је доза већ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dbf5f9"/>
                </a:solidFill>
                <a:latin typeface="Calibri"/>
              </a:rPr>
              <a:t>Небиолошки </a:t>
            </a:r>
            <a:r>
              <a:rPr b="0" lang="sr-Latn-CS" sz="5000" spc="-1" strike="noStrike">
                <a:solidFill>
                  <a:srgbClr val="dbf5f9"/>
                </a:solidFill>
                <a:latin typeface="Calibri"/>
              </a:rPr>
              <a:t>LMTB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јство испољавају после 2-3 месец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тити ККС, функције јетре и бубрега.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n College of Rheumatology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је 2008 на основ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sease Activity Score (DAS)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ло препоруке за сваку од подгрупа: ниске (до 3,2) умерене ( до 5,1) и високе активности (преко 5,1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 избора је Метотрексат 25 мг/недељно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фуномид, Хидроксихлороквин, Миноциклин, Азатиоприн, соли злата, Циклофосфамид..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Задаци физикалне терапије РА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смањи бо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одржи или повећа покретлјивост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очува мишићну снагу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спречи деформациј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обучи правилној употреби зглобова, без оптерећењ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омогући нормалне дневне активност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onstantia"/>
              </a:rPr>
              <a:t>Физикална терапија Р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акутној фази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отерапија, ЕС, позиционирањ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хроничној фази се користе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мотерапијске процедур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дротерапиј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тразвучна терапиј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ктротерапијске процедур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терапиј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серотерапиј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Constantia"/>
              </a:rPr>
              <a:t>Кинезитерапија РА у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ој фаз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ерећење зглобов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венција деформација зглобова позиционирањем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ч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изометријс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контракци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хроничној фаз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сиван покрет , активно-потпомогнут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а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зање скраћених структур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менти ПНФ технике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аксациј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дрокинезитерапиј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me</a:t>
            </a: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atkins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600" spc="-1" strike="noStrike">
                <a:solidFill>
                  <a:srgbClr val="dbf5f9"/>
                </a:solidFill>
                <a:latin typeface="Arial"/>
              </a:rPr>
              <a:t> </a:t>
            </a:r>
            <a:r>
              <a:rPr b="0" lang="sr-CS" sz="4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Физикална терапија РА</a:t>
            </a:r>
            <a:br>
              <a:rPr sz="4600"/>
            </a:b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сихолошка потпор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дукација болесника и породиц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шавање социјалних проблема болесник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имена средстава за самозбрињавањ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600" spc="-1" strike="noStrike">
                <a:solidFill>
                  <a:srgbClr val="dbf5f9"/>
                </a:solidFill>
                <a:latin typeface="Arial"/>
              </a:rPr>
              <a:t>Тестира</a:t>
            </a:r>
            <a:r>
              <a:rPr b="0" lang="sr-CS" sz="4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sr-CS" sz="4600" spc="-1" strike="noStrike">
                <a:solidFill>
                  <a:srgbClr val="dbf5f9"/>
                </a:solidFill>
                <a:latin typeface="Arial"/>
              </a:rPr>
              <a:t>е болесника са РА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inbrocker (ARA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Q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упитник процене здравственог станја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ient Generated Index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ease Repercusion Profil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c Master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питиник ѕа артритис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FT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сложени функцијски тест) Бранковић 1994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450720" y="2584440"/>
            <a:ext cx="824256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Датотека:RheumatoideArthritisA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2394000"/>
            <a:ext cx="2492640" cy="4130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Датотека:Arthrite rhumatoid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4076640"/>
            <a:ext cx="5545080" cy="24465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Arthrit</a:t>
            </a:r>
            <a:r>
              <a:rPr b="1" lang="sr-Latn-CS" sz="3200" spc="-1" strike="noStrike">
                <a:solidFill>
                  <a:srgbClr val="04617b"/>
                </a:solidFill>
                <a:latin typeface="Calibri"/>
              </a:rPr>
              <a:t>is</a:t>
            </a: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rh</a:t>
            </a:r>
            <a:r>
              <a:rPr b="1" lang="sr-Latn-CS" sz="3200" spc="-1" strike="noStrike">
                <a:solidFill>
                  <a:srgbClr val="04617b"/>
                </a:solidFill>
                <a:latin typeface="Calibri"/>
              </a:rPr>
              <a:t>e</a:t>
            </a: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umatoide</a:t>
            </a:r>
            <a:r>
              <a:rPr b="1" lang="sr-Latn-CS" sz="3200" spc="-1" strike="noStrike">
                <a:solidFill>
                  <a:srgbClr val="04617b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3" name="Object 13"/>
          <p:cNvGraphicFramePr/>
          <p:nvPr/>
        </p:nvGraphicFramePr>
        <p:xfrm>
          <a:off x="395280" y="260280"/>
          <a:ext cx="5545080" cy="358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260280"/>
                    <a:ext cx="5545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E</a:t>
            </a:r>
            <a:r>
              <a:rPr b="0" lang="sr-CS" sz="5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пидемиологија Р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 1% становништва болује од 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е обољевају 3 пута чешћ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 се јавља у петој децениј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САД 250000 хоспитализација и 9 милиона посета лекару годишњ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лечени постају трајно неспососбни за рад након 3 годин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600" spc="-1" strike="noStrike">
                <a:solidFill>
                  <a:srgbClr val="dbf5f9"/>
                </a:solidFill>
                <a:latin typeface="Calibri"/>
              </a:rPr>
              <a:t>Запа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sr-CS" sz="4600" spc="-1" strike="noStrike">
                <a:solidFill>
                  <a:srgbClr val="dbf5f9"/>
                </a:solidFill>
                <a:latin typeface="Calibri"/>
              </a:rPr>
              <a:t>ењске реуматске болести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403848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Примарна зглобна обо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енј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Реуматска грозниц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Ј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X</a:t>
            </a: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спондилоартропатиј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934640"/>
            <a:ext cx="403848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Системске болести везивног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Р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СЛ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Сјогрен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Системска склероз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Системски васкулитис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4204800"/>
            <a:ext cx="4038480" cy="21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Метаболичке артропатиј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Гих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Псеудогих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Охроноз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Артропатија у хемосидероз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Артропатија у охроноз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8320" y="4204800"/>
            <a:ext cx="4038480" cy="21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Инфекцијски артритис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Бактеријск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Вирусн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Г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ивичн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onstantia"/>
              </a:rPr>
              <a:t>паразитн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600" spc="-1" strike="noStrike">
                <a:solidFill>
                  <a:srgbClr val="dbf5f9"/>
                </a:solidFill>
                <a:latin typeface="Calibri"/>
              </a:rPr>
              <a:t>Заједничке карактеристике системских болести везива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Генетска предиспозициј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Мултисистемски каракте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Општи несп</a:t>
            </a:r>
            <a:r>
              <a:rPr b="0" lang="sr-Latn-CS" sz="2200" spc="-1" strike="noStrike">
                <a:solidFill>
                  <a:srgbClr val="ffffff"/>
                </a:solidFill>
                <a:latin typeface="Constantia"/>
              </a:rPr>
              <a:t>e</a:t>
            </a: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цифични симптом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Склоност прогресији, спонтаној ремисији и егзарцерб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Чешће код жена и старих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Лимфаденопатија, спленомегалиј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Преклапање клиничких и серолошких обележј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Позитивни неспецифични знаци упал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Аутоантител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Карактеристичан патохистолошки налаз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Пово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ан ефекат антизапа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sr-CS" sz="2200" spc="-1" strike="noStrike">
                <a:solidFill>
                  <a:srgbClr val="ffffff"/>
                </a:solidFill>
                <a:latin typeface="Constantia"/>
              </a:rPr>
              <a:t>ењске и имуносупресивне те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686800" cy="12193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а и није  довољно позн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ски, хормонски и   имунолошки фак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атолошки процес је реуматоидно запаљ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уси спољашње средине (инфекције, пушење...) покрећу серију ћелијских и молекулских догађања које вероватно потичу од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D 4+ T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>
                <a:solidFill>
                  <a:srgbClr val="dbf5f9"/>
                </a:solidFill>
                <a:latin typeface="Arial"/>
              </a:rPr>
              <a:t>Патогенеза Р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ктивиране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CD 4+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Т ћелије стимулишу В ћелије на продукцију реуматоидног фактор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з макрофаге, Т и В лимфоците, активирани синовијски фибробласти играју улогу у иницијацији и одржању Р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типично екстраваскуларно обољење аутоимуних комплекса. Важну улогу у патогенези игра стварање имуних комплекса између реуматоидних фактора и измењених  имуноглобули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0" y="-378000"/>
            <a:ext cx="9156600" cy="22989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28240" y="12189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Код већине болесника болест почиње постепено. Код 50% болесника локализација зглобних промена на почетку је типична, симетрична на проксималним </a:t>
            </a: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IF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MCP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 зглобовима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Понекад процес мож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 да почне нагло, са акутним запаљењем већег броја зглобова, а понекад постоје изражени општи симптоми акутне инфламациј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sr-CS" sz="2600" spc="-1" strike="noStrike">
                <a:solidFill>
                  <a:srgbClr val="ffffff"/>
                </a:solidFill>
                <a:latin typeface="Constantia"/>
              </a:rPr>
              <a:t>Ређе болест може од самог почетка и током целог свог трајања да има врло благ облик, без већих деструктивних промена на злобовим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8:03:09Z</dcterms:created>
  <dc:creator>Madgunny</dc:creator>
  <dc:description/>
  <dc:language>en-US</dc:language>
  <cp:lastModifiedBy>Bill Gates</cp:lastModifiedBy>
  <dcterms:modified xsi:type="dcterms:W3CDTF">2013-04-02T07:37:55Z</dcterms:modified>
  <cp:revision>33</cp:revision>
  <dc:subject/>
  <dc:title>МЕДИЦИНСКИ ФАКУЛТЕТ КРАГУЈЕВАЦ</dc:title>
</cp:coreProperties>
</file>